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5FDB-2773-4956-A23E-4638EFC6F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7E8B-7310-4BCC-8D1A-C0CD4DC8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1388-8FDE-420B-981F-8694CF361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1C2E-1174-4F2C-8199-54A5BDF88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5CA7-065A-4E15-A74A-0D82E8CAB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66BA-C543-4095-B0B7-B13E6F7C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382D-64AA-4C38-AF7E-CED8E432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09FF-C291-47C8-87E4-26F0A482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C6AB-3CFC-42E0-9E0D-4D7AD16E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BFC0-1C48-4C8A-BB24-931FB1FD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D10A-C44E-4F1F-BABD-901AB3D0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3334-5DE4-4FBD-80E7-7FF24A11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A5AC-350A-4632-B054-B7F26196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4742-F6ED-482D-97D0-ADC80F91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F389-6C96-4AA9-859F-DC1337D3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4EB5-1FD0-4C98-A00A-C6CC456C1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8AAF-C407-4CA8-B986-9993433E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9E34-DACC-49E0-8E83-2FA936E3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4FF2-6A3F-4B1E-9633-1F26EA94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4748-9AFD-4DEF-9B70-F9818BEC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A3B0-68BF-4964-A055-1B2C06D8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489D-6BB5-48D6-B309-5E17A2B3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65ED-1446-437B-A4D5-6AD73453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BBFE-D5EE-4CC7-A6F7-6A7808E9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ECB4-67E4-490F-83AC-77A707752E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0A40-FA01-43DB-8497-999CECB60D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39720" y="2425320"/>
            <a:ext cx="6912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BUDGET – 2008  - an over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-360" y="5105520"/>
            <a:ext cx="9115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        </a:t>
            </a: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swamy associ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chennai – coimbatore – bengaluru – hyderabad – ahmedabad - rajk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100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250" autoRev="1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82600" y="469800"/>
            <a:ext cx="737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Section 11 D  – widens its wing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03480" y="2575080"/>
            <a:ext cx="7210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To cover “</a:t>
            </a:r>
            <a:r>
              <a:rPr b="1" i="1" lang="en-US" sz="2800" spc="-1" strike="noStrike">
                <a:solidFill>
                  <a:srgbClr val="ffffff"/>
                </a:solidFill>
                <a:latin typeface="Palatino Linotype"/>
              </a:rPr>
              <a:t>any person”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01720" y="3137040"/>
            <a:ext cx="675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To cover exempted / NIL rated go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82600" y="469800"/>
            <a:ext cx="737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Cenvat Credit Rules, 2004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333360" y="2554200"/>
            <a:ext cx="915840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Input service definition to cover only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 “upto place of removal”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5040" y="3403440"/>
            <a:ext cx="857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Credit of Service tax on outward transport – out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80920" y="4710240"/>
            <a:ext cx="9601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Master Circular – Still a ray of hope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4760" y="5856120"/>
            <a:ext cx="98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GTA Service Tax – Cannot be paid through credit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82600" y="469800"/>
            <a:ext cx="737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Rule 6 of CCR…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66680" y="215424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         </a:t>
            </a: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Taxable &amp; Exempted Service providers to pay 8 % of exempted services val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240" y="34704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Option to reverse credit – Introduced for 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5120" y="471636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93720" y="45306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Formula for provisional reversal and final rever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84480" y="3308400"/>
            <a:ext cx="46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Palatino Linotype"/>
              </a:rPr>
              <a:t>No more 20 % restri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99560" y="1211400"/>
            <a:ext cx="641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- </a:t>
            </a:r>
            <a:r>
              <a:rPr b="1" i="1" lang="en-US" sz="2800" spc="-1" strike="noStrike">
                <a:solidFill>
                  <a:srgbClr val="ffffff"/>
                </a:solidFill>
                <a:latin typeface="Palatino Linotype"/>
              </a:rPr>
              <a:t>Needs another Shri. Ramanujan</a:t>
            </a: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82600" y="469800"/>
            <a:ext cx="737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Rule 6 of CC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04880" y="2081160"/>
            <a:ext cx="6417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First to reverse the input cred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for exempted goods manufactu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04120" y="3121200"/>
            <a:ext cx="595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Next to reverse the input cred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for exempted servic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14280" y="4152960"/>
            <a:ext cx="750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Next to reverse the input services cred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for exempted goods manufactured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exempted services rende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82600" y="469800"/>
            <a:ext cx="737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Miscellanea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47600" y="2081160"/>
            <a:ext cx="57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DTA duty for EOUs – enhanc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23920" y="2790720"/>
            <a:ext cx="51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1% NCCD for mobile 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4560" y="3659040"/>
            <a:ext cx="916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- Review of orders by Committ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                </a:t>
            </a: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- Measure to resolve difference of opin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103840" y="2081160"/>
            <a:ext cx="545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Goods” definition redefin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82600" y="469800"/>
            <a:ext cx="737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Miscellane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26360" y="4276800"/>
            <a:ext cx="7220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Labelling or relabelling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Palatino Linotype"/>
              </a:rPr>
              <a:t>and</a:t>
            </a: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 repack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changed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Labelling or relabelling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Palatino Linotype"/>
              </a:rPr>
              <a:t>or</a:t>
            </a: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 repack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310824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Section 3A re-introdu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Palatino Linotype"/>
              </a:rPr>
              <a:t>(Mummy Retur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703600" y="2471760"/>
            <a:ext cx="6316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SERVICE TA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182600" y="469800"/>
            <a:ext cx="737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Threshold Exemp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65280" y="2638440"/>
            <a:ext cx="652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Exemption enhanced to Rs.10 lak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Palatino Linotype"/>
              </a:rPr>
              <a:t>- No registration upto Rs. 9 lak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82600" y="469800"/>
            <a:ext cx="737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Disputes Resolution Sche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99240" y="2043000"/>
            <a:ext cx="698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Effective from 01.07.2008 to</a:t>
            </a: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30.09.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28640" y="2833560"/>
            <a:ext cx="634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Arrears pending as on 01.03.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54200" y="3679920"/>
            <a:ext cx="74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Service tax component of arrears not to    exceed Rs.25,0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82600" y="469800"/>
            <a:ext cx="737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GTA Abatement – made simp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57840" y="3236760"/>
            <a:ext cx="720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No more declaration from transpor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703600" y="247140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CENTRAL EXC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82600" y="1170000"/>
            <a:ext cx="737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Works Contract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4040" y="3265560"/>
            <a:ext cx="39891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Rate enhanced to 4 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35200" y="738360"/>
            <a:ext cx="772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New levies / Expansion of levies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7280" y="2351160"/>
            <a:ext cx="871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All Information Technology Services under n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0440" y="3236760"/>
            <a:ext cx="842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Amendments in BAS / Consulting Engineer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8920" y="4527720"/>
            <a:ext cx="85748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(Classification war with Copyrights in the offing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14400" y="309600"/>
            <a:ext cx="811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New levies / Expansion of levies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0640" y="1754280"/>
            <a:ext cx="9711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UL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Stock Ex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Processing and Clearing ho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Tour op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Palatino Linotype"/>
              </a:rPr>
              <a:t>(To include all permits except stage carriage per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B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Palatino Linotype"/>
              </a:rPr>
              <a:t>( To include game of chance like lotter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14400" y="738360"/>
            <a:ext cx="811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New levies / Expansion of lev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01960" y="2325600"/>
            <a:ext cx="5843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Supply of tangible go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Internet tele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Cargo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Renting of immovable prope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20720" y="738360"/>
            <a:ext cx="7664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Miscellane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34800" y="2197080"/>
            <a:ext cx="3804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Payment in adv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86000" y="296244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Self adjustment – Upto Rs. 1 lak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56320" y="4075200"/>
            <a:ext cx="548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Revised return – Upto 90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14640" y="4923000"/>
            <a:ext cx="4216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More penal provi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157560" y="2471760"/>
            <a:ext cx="6316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CUSTO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18640" y="1868400"/>
            <a:ext cx="688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Project imports – Rate reduced to 5 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0" y="2697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93680" y="2882880"/>
            <a:ext cx="651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Iron / Aluminium melting scrap – N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440" y="3720960"/>
            <a:ext cx="9099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Time limit for re-export under drawback sche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reduced to 18 mon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39720" y="2425320"/>
            <a:ext cx="6912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THANK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-360" y="5105520"/>
            <a:ext cx="9115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        </a:t>
            </a: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swamy associ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chennai – coimbatore – bengaluru – hyderabad – ahmedabad - rajk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609560" y="2575080"/>
            <a:ext cx="6316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Excise duty reduced to 14 %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across the board</a:t>
            </a:r>
            <a:br>
              <a:rPr sz="3600"/>
            </a:br>
            <a:br>
              <a:rPr sz="3600"/>
            </a:br>
            <a:r>
              <a:rPr b="1" i="1" lang="en-US" sz="2800" spc="-1" strike="noStrike">
                <a:solidFill>
                  <a:srgbClr val="ffffff"/>
                </a:solidFill>
                <a:latin typeface="Palatino Linotype"/>
              </a:rPr>
              <a:t>( 14.42% with Education C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09560" y="738360"/>
            <a:ext cx="6316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Pharma gets the best tonic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09560" y="2575080"/>
            <a:ext cx="6316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Rate of duty reduced to 8 %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( </a:t>
            </a:r>
            <a:r>
              <a:rPr b="1" i="1" lang="en-US" sz="2800" spc="-1" strike="noStrike">
                <a:solidFill>
                  <a:srgbClr val="ffffff"/>
                </a:solidFill>
                <a:latin typeface="Palatino Linotype"/>
              </a:rPr>
              <a:t>abatement reduced to 35.5 %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38360" y="4027320"/>
            <a:ext cx="6316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Palatino Linotype"/>
              </a:rPr>
              <a:t>- Units at Excise exempted zones are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Palatino Linotype"/>
              </a:rPr>
              <a:t>no more benef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609560" y="995400"/>
            <a:ext cx="6316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Paper gets pamper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09560" y="2732040"/>
            <a:ext cx="6316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Exemption upto 3500 MTs restored</a:t>
            </a:r>
            <a:br>
              <a:rPr sz="2800"/>
            </a:br>
            <a:r>
              <a:rPr b="1" i="1" lang="en-US" sz="2400" spc="-1" strike="noStrike">
                <a:solidFill>
                  <a:srgbClr val="ffffff"/>
                </a:solidFill>
                <a:latin typeface="Palatino Linotype"/>
              </a:rPr>
              <a:t>(for units using non-conventional raw materials)</a:t>
            </a: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29640" y="4319640"/>
            <a:ext cx="50835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Rate of duty reduced to 8 %</a:t>
            </a:r>
            <a:br>
              <a:rPr sz="2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09560" y="738360"/>
            <a:ext cx="6316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Roads to clog mo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03480" y="3246480"/>
            <a:ext cx="7210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Duty for two wheelers &amp; small cars reduced to 12 %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82600" y="738360"/>
            <a:ext cx="737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Software – No more soft corn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81000" y="2517840"/>
            <a:ext cx="77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Duty on packaged software increased to 12 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82600" y="469800"/>
            <a:ext cx="737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Section 4 A – gets more teeth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03480" y="1774800"/>
            <a:ext cx="7210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New Rules notified for non-declaration / incorrect /obliterating MR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55760" y="3666960"/>
            <a:ext cx="7210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- Adoption of nearest MRP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- Market enqui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55760" y="4994280"/>
            <a:ext cx="7210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If MRP is altered – altered MR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6920" y="469800"/>
            <a:ext cx="817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Section 11B – Interesting amendm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03480" y="2843280"/>
            <a:ext cx="7210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Refunds to cover interest also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92600" y="3508200"/>
            <a:ext cx="71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Pre deposit to be refunded in 3 mon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1T12:16:25Z</dcterms:created>
  <dc:creator>jaikumar</dc:creator>
  <dc:description/>
  <dc:language>en-US</dc:language>
  <cp:lastModifiedBy>admin</cp:lastModifiedBy>
  <dcterms:modified xsi:type="dcterms:W3CDTF">2008-03-03T05:13:30Z</dcterms:modified>
  <cp:revision>56</cp:revision>
  <dc:subject/>
  <dc:title>Swamy associates</dc:title>
</cp:coreProperties>
</file>